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1600" y="396216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248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576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160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576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54160" y="0"/>
            <a:ext cx="72007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248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91600" y="396216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248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5576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992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9160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5576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992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4160" y="0"/>
            <a:ext cx="72007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248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15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041480"/>
            <a:ext cx="9144000" cy="5816520"/>
          </a:xfrm>
          <a:prstGeom prst="rect">
            <a:avLst/>
          </a:prstGeom>
          <a:gradFill rotWithShape="0">
            <a:gsLst>
              <a:gs pos="0">
                <a:srgbClr val="1a2673"/>
              </a:gs>
              <a:gs pos="100000">
                <a:srgbClr val="0c29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4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950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c29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7ea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035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4200" y="2417400"/>
            <a:ext cx="37022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1200" y="-6480"/>
            <a:ext cx="582768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isualization of Topological Defects in Liquid Crystals</a:t>
            </a:r>
            <a:br>
              <a:rPr sz="2600"/>
            </a:b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Slavin, Laidlaw, Pelcovits, Zhang, Loriot, Callan-Jones : Brown Universi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72240" y="6362640"/>
            <a:ext cx="247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oster V1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34880" y="2787480"/>
            <a:ext cx="5197680" cy="38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7ea"/>
                </a:solidFill>
                <a:latin typeface="Arial"/>
              </a:rPr>
              <a:t>Visualization of Topological Defects in Liquid Crystals</a:t>
            </a:r>
            <a:endParaRPr b="0" lang="en-US" sz="30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39080" y="6362640"/>
            <a:ext cx="210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7ea"/>
                </a:solidFill>
                <a:latin typeface="Arial"/>
              </a:rPr>
              <a:t>Poster V1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5600" y="1082520"/>
            <a:ext cx="7161120" cy="537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178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5:39:04Z</dcterms:created>
  <dc:creator>Melissa Kingman</dc:creator>
  <dc:description/>
  <dc:language>en-US</dc:language>
  <cp:lastModifiedBy>daf</cp:lastModifiedBy>
  <dcterms:modified xsi:type="dcterms:W3CDTF">2005-10-13T15:40:55Z</dcterms:modified>
  <cp:revision>62</cp:revision>
  <dc:subject/>
  <dc:title>PowerPoint Presentation</dc:title>
</cp:coreProperties>
</file>