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7200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576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9920" y="129528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9160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576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9920" y="3962160"/>
            <a:ext cx="272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4160" y="0"/>
            <a:ext cx="72007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480" y="396216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480" y="1295280"/>
            <a:ext cx="4133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3962160"/>
            <a:ext cx="84711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1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041480"/>
            <a:ext cx="9144000" cy="5816520"/>
          </a:xfrm>
          <a:prstGeom prst="rect">
            <a:avLst/>
          </a:prstGeom>
          <a:gradFill rotWithShape="0">
            <a:gsLst>
              <a:gs pos="0">
                <a:srgbClr val="1a2673"/>
              </a:gs>
              <a:gs pos="100000">
                <a:srgbClr val="0c29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4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1600" y="1295280"/>
            <a:ext cx="8471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950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c29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7ea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7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35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4200" y="2417400"/>
            <a:ext cx="37022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2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9520" y="196560"/>
            <a:ext cx="5703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sualization of Vortices in Simulated Airflow around Bat Wings During Fligh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.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Hueso et 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6880" y="264492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Bats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mmals that fly in a unique and effici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72240" y="6362640"/>
            <a:ext cx="247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ster V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0120" y="3692520"/>
            <a:ext cx="424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Scientists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trive to understand bat’s strategies for producing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7800" y="5114880"/>
            <a:ext cx="424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Our Visualizations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mploy pathlines and streamlines to show vortices in simulate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00640" y="2941560"/>
            <a:ext cx="450828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93800" y="2657520"/>
            <a:ext cx="5231160" cy="1446120"/>
          </a:xfrm>
          <a:custGeom>
            <a:avLst/>
            <a:gdLst/>
            <a:ahLst/>
            <a:rect l="l" t="t" r="r" b="b"/>
            <a:pathLst>
              <a:path w="3295" h="911">
                <a:moveTo>
                  <a:pt x="3295" y="0"/>
                </a:moveTo>
                <a:lnTo>
                  <a:pt x="3295" y="496"/>
                </a:lnTo>
                <a:lnTo>
                  <a:pt x="0" y="496"/>
                </a:lnTo>
                <a:lnTo>
                  <a:pt x="0" y="777"/>
                </a:lnTo>
                <a:lnTo>
                  <a:pt x="255" y="911"/>
                </a:lnTo>
              </a:path>
            </a:pathLst>
          </a:custGeom>
          <a:noFill/>
          <a:ln w="316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4960" y="2116080"/>
            <a:ext cx="6423120" cy="20520"/>
          </a:xfrm>
          <a:prstGeom prst="line">
            <a:avLst/>
          </a:prstGeom>
          <a:ln w="31680">
            <a:solidFill>
              <a:srgbClr val="ff66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7200720" cy="11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fff7ea"/>
                </a:solidFill>
                <a:latin typeface="Arial"/>
              </a:rPr>
              <a:t>Visualization of Flow in Bat Flight</a:t>
            </a:r>
            <a:endParaRPr b="0" lang="en-US" sz="3000" spc="-1" strike="noStrike">
              <a:solidFill>
                <a:srgbClr val="fff7ea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16040" y="1122480"/>
            <a:ext cx="2360520" cy="20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59520" y="3795840"/>
            <a:ext cx="3301920" cy="247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39080" y="6362640"/>
            <a:ext cx="210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7ea"/>
                </a:solidFill>
                <a:latin typeface="Arial"/>
              </a:rPr>
              <a:t>Poster V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627360" y="1127160"/>
            <a:ext cx="2720880" cy="1985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88080" y="1433520"/>
            <a:ext cx="2232000" cy="1191240"/>
          </a:xfrm>
          <a:prstGeom prst="rect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ation of graphica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360" y="68256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tion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2200" y="1147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1920" y="3444840"/>
            <a:ext cx="0" cy="31896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8840" y="3448080"/>
            <a:ext cx="0" cy="31896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8720" y="33656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am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1800" y="33861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84080" y="3762360"/>
            <a:ext cx="330228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628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6283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004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287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60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42:58Z</dcterms:created>
  <dc:creator>Melissa Kingman</dc:creator>
  <dc:description/>
  <dc:language>en-US</dc:language>
  <cp:lastModifiedBy>daf</cp:lastModifiedBy>
  <dcterms:modified xsi:type="dcterms:W3CDTF">2005-10-13T15:45:02Z</dcterms:modified>
  <cp:revision>46</cp:revision>
  <dc:subject/>
  <dc:title>PowerPoint Presentation</dc:title>
</cp:coreProperties>
</file>